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1BA7-9EEA-49C9-9CD2-5FC9DCFCC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2E3E-E064-4695-AD30-57FE8B68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FC6F-18BD-4D5D-8133-3231DF38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6F1-5075-4F62-ABAA-DAB47CEA9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026ED-A8B1-4D4A-9A86-F8B356494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2CB2-BC40-4DFB-8C82-A060CA2D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8088-8F02-4019-897D-4C48914D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A48FC-7907-4799-B4D7-D5EB58EA7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32D4-BC00-490F-AAA5-1730EF2E1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FCA7-67AB-4DBD-9DED-5522BF624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295FF-645A-4410-80FB-A633E66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45BF-14E4-4F65-A3C7-F97509BB2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C3D4D-3D6F-4504-B357-CAA2CCD7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946DE-4C63-40A3-AB2D-09BA4AB0E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0592B-80A2-40DF-A7D1-3C63B3008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228F2-6D84-4CA3-AB0B-58D1F06B8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968EA-89E0-42DC-AA86-0B687640A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918-44EA-49FE-A9E5-53D9A1F9D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04C9-C520-4C01-84A2-BEB2C243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7E5C-9159-4578-8B0F-BBE33FDA1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9796-805A-4FF5-AE7D-BF4EE293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A5D9-F432-440D-9B52-3A57301C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BC33-BC8E-4523-AE19-6106DD2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9DE2-0425-4414-A8CF-C4FF276C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F408-927A-4498-B18B-722FF719DAE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D158-A9AD-4DDA-8D90-1337D14C8581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Impact"/>
              </a:rPr>
              <a:t>Что такое эксперимен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Домашний эксперимент с креветк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Цикл развития рассольных кревето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152800" y="1484280"/>
            <a:ext cx="48672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реветки рассольные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195640" y="1844640"/>
            <a:ext cx="4321080" cy="439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Корм для рыб из рассольных креветок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486160" y="2201760"/>
            <a:ext cx="4894200" cy="38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Эксперимент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perimentum (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ат.) – проба, опы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Эксперимент -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1598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амый главный метод познания в большинстве наук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 его помощью в строго контролируемых и управляемых условиях исследуются самые разные яв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395280" y="765000"/>
            <a:ext cx="8228160" cy="5365440"/>
            <a:chOff x="395280" y="765000"/>
            <a:chExt cx="8228160" cy="5365440"/>
          </a:xfrm>
        </p:grpSpPr>
        <p:cxnSp>
          <p:nvCxnSpPr>
            <p:cNvPr id="156" name="_s109586"/>
            <p:cNvCxnSpPr>
              <a:stCxn id="157" idx="1"/>
              <a:endCxn id="158" idx="2"/>
            </p:cNvCxnSpPr>
            <p:nvPr/>
          </p:nvCxnSpPr>
          <p:spPr>
            <a:xfrm rot="10800000">
              <a:off x="2863080" y="1395360"/>
              <a:ext cx="823320" cy="44193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9" name="_s109584"/>
            <p:cNvCxnSpPr>
              <a:stCxn id="160" idx="1"/>
              <a:endCxn id="158" idx="2"/>
            </p:cNvCxnSpPr>
            <p:nvPr/>
          </p:nvCxnSpPr>
          <p:spPr>
            <a:xfrm rot="10800000">
              <a:off x="2863080" y="1395360"/>
              <a:ext cx="823320" cy="3472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109580"/>
            <p:cNvCxnSpPr>
              <a:stCxn id="162" idx="1"/>
              <a:endCxn id="158" idx="2"/>
            </p:cNvCxnSpPr>
            <p:nvPr/>
          </p:nvCxnSpPr>
          <p:spPr>
            <a:xfrm rot="10800000">
              <a:off x="2863080" y="1395360"/>
              <a:ext cx="823320" cy="2525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109579"/>
            <p:cNvCxnSpPr>
              <a:stCxn id="164" idx="1"/>
              <a:endCxn id="158" idx="2"/>
            </p:cNvCxnSpPr>
            <p:nvPr/>
          </p:nvCxnSpPr>
          <p:spPr>
            <a:xfrm rot="10800000">
              <a:off x="2863080" y="1395360"/>
              <a:ext cx="823320" cy="15786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109578"/>
            <p:cNvCxnSpPr>
              <a:stCxn id="166" idx="1"/>
              <a:endCxn id="158" idx="2"/>
            </p:cNvCxnSpPr>
            <p:nvPr/>
          </p:nvCxnSpPr>
          <p:spPr>
            <a:xfrm rot="10800000">
              <a:off x="2863080" y="1395360"/>
              <a:ext cx="823320" cy="6318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8" name="_s109574"/>
            <p:cNvSpPr/>
            <p:nvPr/>
          </p:nvSpPr>
          <p:spPr>
            <a:xfrm>
              <a:off x="395280" y="765000"/>
              <a:ext cx="4937040" cy="631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Виды эксперимент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109575"/>
            <p:cNvSpPr/>
            <p:nvPr/>
          </p:nvSpPr>
          <p:spPr>
            <a:xfrm>
              <a:off x="3686400" y="1711800"/>
              <a:ext cx="4937040" cy="631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Химиче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109576"/>
            <p:cNvSpPr/>
            <p:nvPr/>
          </p:nvSpPr>
          <p:spPr>
            <a:xfrm>
              <a:off x="3686400" y="2658600"/>
              <a:ext cx="4937040" cy="631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Физиче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109577"/>
            <p:cNvSpPr/>
            <p:nvPr/>
          </p:nvSpPr>
          <p:spPr>
            <a:xfrm>
              <a:off x="3686400" y="3605400"/>
              <a:ext cx="4937040" cy="631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Биологиче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109583"/>
            <p:cNvSpPr/>
            <p:nvPr/>
          </p:nvSpPr>
          <p:spPr>
            <a:xfrm>
              <a:off x="3686400" y="4552200"/>
              <a:ext cx="4937040" cy="631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едагогиче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_s109585"/>
            <p:cNvSpPr/>
            <p:nvPr/>
          </p:nvSpPr>
          <p:spPr>
            <a:xfrm>
              <a:off x="3686400" y="5499360"/>
              <a:ext cx="4930560" cy="63108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Психологическ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Эксперимент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31640" y="1684440"/>
            <a:ext cx="8208000" cy="4390920"/>
            <a:chOff x="431640" y="1684440"/>
            <a:chExt cx="8208000" cy="4390920"/>
          </a:xfrm>
        </p:grpSpPr>
        <p:cxnSp>
          <p:nvCxnSpPr>
            <p:cNvPr id="169" name="_s107538"/>
            <p:cNvCxnSpPr>
              <a:stCxn id="170" idx="0"/>
              <a:endCxn id="171" idx="2"/>
            </p:cNvCxnSpPr>
            <p:nvPr/>
          </p:nvCxnSpPr>
          <p:spPr>
            <a:xfrm flipV="1" rot="16200000">
              <a:off x="5201280" y="2774520"/>
              <a:ext cx="878760" cy="221004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2" name="_s107533"/>
            <p:cNvCxnSpPr>
              <a:stCxn id="173" idx="0"/>
              <a:endCxn id="171" idx="2"/>
            </p:cNvCxnSpPr>
            <p:nvPr/>
          </p:nvCxnSpPr>
          <p:spPr>
            <a:xfrm flipH="1" flipV="1" rot="5400000">
              <a:off x="2991600" y="2774160"/>
              <a:ext cx="878760" cy="2210760"/>
            </a:xfrm>
            <a:prstGeom prst="bentConnector3">
              <a:avLst>
                <a:gd name="adj1" fmla="val 1299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1" name="_s107528"/>
            <p:cNvSpPr/>
            <p:nvPr/>
          </p:nvSpPr>
          <p:spPr>
            <a:xfrm>
              <a:off x="2642040" y="1684440"/>
              <a:ext cx="378828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По условиям провед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_s107530"/>
            <p:cNvSpPr/>
            <p:nvPr/>
          </p:nvSpPr>
          <p:spPr>
            <a:xfrm>
              <a:off x="431640" y="4318920"/>
              <a:ext cx="378828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естествен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107537"/>
            <p:cNvSpPr/>
            <p:nvPr/>
          </p:nvSpPr>
          <p:spPr>
            <a:xfrm>
              <a:off x="4851360" y="4318920"/>
              <a:ext cx="3788280" cy="17564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000000"/>
                  </a:solidFill>
                  <a:latin typeface="Arial"/>
                </a:rPr>
                <a:t>искусственные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4" name=""/>
          <p:cNvGrpSpPr/>
          <p:nvPr/>
        </p:nvGrpSpPr>
        <p:grpSpPr>
          <a:xfrm>
            <a:off x="457200" y="122400"/>
            <a:ext cx="8228160" cy="6007680"/>
            <a:chOff x="457200" y="122400"/>
            <a:chExt cx="8228160" cy="6007680"/>
          </a:xfrm>
        </p:grpSpPr>
        <p:cxnSp>
          <p:nvCxnSpPr>
            <p:cNvPr id="175" name="_s138258"/>
            <p:cNvCxnSpPr>
              <a:stCxn id="176" idx="1"/>
              <a:endCxn id="177" idx="2"/>
            </p:cNvCxnSpPr>
            <p:nvPr/>
          </p:nvCxnSpPr>
          <p:spPr>
            <a:xfrm rot="10800000">
              <a:off x="2925000" y="1213920"/>
              <a:ext cx="823320" cy="4370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8" name="_s138255"/>
            <p:cNvCxnSpPr>
              <a:stCxn id="179" idx="1"/>
              <a:endCxn id="177" idx="2"/>
            </p:cNvCxnSpPr>
            <p:nvPr/>
          </p:nvCxnSpPr>
          <p:spPr>
            <a:xfrm rot="10800000">
              <a:off x="2925000" y="1213920"/>
              <a:ext cx="823320" cy="2731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0" name="_s138253"/>
            <p:cNvCxnSpPr>
              <a:stCxn id="181" idx="1"/>
              <a:endCxn id="177" idx="2"/>
            </p:cNvCxnSpPr>
            <p:nvPr/>
          </p:nvCxnSpPr>
          <p:spPr>
            <a:xfrm rot="10800000">
              <a:off x="2925000" y="1213920"/>
              <a:ext cx="823320" cy="10929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77" name="_s138249"/>
            <p:cNvSpPr/>
            <p:nvPr/>
          </p:nvSpPr>
          <p:spPr>
            <a:xfrm>
              <a:off x="457200" y="122400"/>
              <a:ext cx="4937040" cy="10922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 месту проведе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_s138250"/>
            <p:cNvSpPr/>
            <p:nvPr/>
          </p:nvSpPr>
          <p:spPr>
            <a:xfrm>
              <a:off x="3748320" y="1760760"/>
              <a:ext cx="4937040" cy="10922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Лаборатор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_s138252"/>
            <p:cNvSpPr/>
            <p:nvPr/>
          </p:nvSpPr>
          <p:spPr>
            <a:xfrm>
              <a:off x="3748320" y="3399120"/>
              <a:ext cx="4937040" cy="10922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лев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_s138257"/>
            <p:cNvSpPr/>
            <p:nvPr/>
          </p:nvSpPr>
          <p:spPr>
            <a:xfrm>
              <a:off x="3748320" y="5037840"/>
              <a:ext cx="4937040" cy="109224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роизводственные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Эксперимент с креветками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Артемия – маленькое планктонное ракообразное. В течении столетий она известна как «рассольная креветка», поскольку всю жизнь проводит в соленом растворе.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3924360" y="4149720"/>
            <a:ext cx="374328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Оборудование для опыт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48320" y="1719360"/>
            <a:ext cx="40384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Микроско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едметное стекло с лунко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окровное стекл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ипет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Емкость для образц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Липкая лент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12720" y="2432160"/>
            <a:ext cx="3529080" cy="330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Цисты креветки рассольной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619280" y="1744560"/>
            <a:ext cx="4753080" cy="324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01:35:32Z</dcterms:created>
  <dc:creator>q</dc:creator>
  <dc:description/>
  <dc:language>en-US</dc:language>
  <cp:lastModifiedBy>q</cp:lastModifiedBy>
  <dcterms:modified xsi:type="dcterms:W3CDTF">2009-01-11T07:13:52Z</dcterms:modified>
  <cp:revision>5</cp:revision>
  <dc:subject/>
  <dc:title>Что такое эксперимент</dc:title>
</cp:coreProperties>
</file>